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ABC7-A801-4401-A03E-6FC9264223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7010-EBBF-4DB3-BA09-04E5D26BB8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AB8-517F-4A1A-B643-06238D50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251-9E7E-45BC-AE1A-0F68AD3D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6D1-0C23-421E-A5B4-59914118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B6C-4FC8-462A-9CFC-4ED9477F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209-57E9-46BD-A94E-F873E503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75F-3D66-478D-8EF3-517A904C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A3B-F6DA-4025-A8CC-F55687DB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CE7-D698-4512-B989-140E100B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2F8D-E94E-4781-B35F-95D609DF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E9F-D436-406E-A910-0D7C5086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E80-1863-4E14-B184-BD6DADD4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C0D-0653-460A-9A33-C7D579D0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50EF-EBF6-43B3-992F-C62EFEEB4C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14200" y="1714680"/>
            <a:ext cx="7572600" cy="4757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9200000"/>
          </a:gradFill>
          <a:ln w="155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85840"/>
            <a:ext cx="8215560" cy="5572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9200000"/>
          </a:gradFill>
          <a:ln w="244440">
            <a:solidFill>
              <a:srgbClr val="ffff00"/>
            </a:solidFill>
            <a:beve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Плоские кривые – изящные прохождения человеческого разу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Торопова  Е.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e1e8f5"/>
              </a:gs>
            </a:gsLst>
            <a:lin ang="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Литератур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-25000">
                <a:solidFill>
                  <a:srgbClr val="000000"/>
                </a:solidFill>
                <a:latin typeface="Calibri"/>
              </a:rPr>
              <a:t>Бородуля И.Т. 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alibri"/>
              </a:rPr>
              <a:t>Тригонометрические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alibri"/>
              </a:rPr>
              <a:t>уравнения и неравенства: Кн. для учителя.— М.: Просвещение, 1989.— 239 с: и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baseline="-25000">
                <a:solidFill>
                  <a:srgbClr val="000000"/>
                </a:solidFill>
                <a:latin typeface="Calibri"/>
              </a:rPr>
              <a:t>И. М. Гельфанд, С.М.Львовский, А. Л. Тоом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alibri"/>
              </a:rPr>
              <a:t>. Тригонометрия. М.: МЦНМО, 2003. — 200 с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e1e8f5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нная программа предназначена для повышения эффективности подготовки учащихся 11-х классов к итоговой аттестации по алгебре и началам анализа за курс полной средней школы и предусматривает их подготовку к дальнейшему математическому образованию, так как анализ сдачи единого государственного экзамена показал, что ученики допускают много ошибок при выполнении заданий именно этого раздела или вообще не берутся за такие зад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т недостаток в получении тригонометрических знаний помогает устранять данный кур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дел “Тригонометрия” школьного курса математики наиболее сложный для учащихся. Одной из причин этого является недостаточное количество программных часов, отводимое на изучение этого раздела, а так же поверхностное изложение некоторых важных вопросов, связанных с решением тригонометрических уравнений, отбором и исследованием корней, решением тригонометрических неравен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2920" y="285840"/>
            <a:ext cx="8858160" cy="657216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642960" y="571680"/>
            <a:ext cx="8001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лью курса явля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я базовых математических знаний, систематизация, расширение и углубление знаний в вопросах исследования тригонометрических функций с помощью их графиков, решения уравнений и неравен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ознавательных интересов и творческих способностей учащихся, психических способностей ребенка, обеспечивающих его адаптацию в дальнейшей жизни, научить школьников учиться посредствам личностно-ориентированного под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творческой личности, умеющей самореализовываться и интегрироваться в системе мировой математи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2920" y="285840"/>
            <a:ext cx="8858160" cy="657216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дачи курс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центировать внимание учащихся на единых требованиях к правилам оформления различных видов заданий, включаемых в итоговую аттестацию за курс полной общеобразовательной средней школ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ширить математические представления учащихся по определённым темам раздела “Тригонометрия”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ть навыки применения свойств тригонометрических функций и соотношение между тригонометрическими функциями при преобразовании тригонометрических выражений, при решении тригонометрических уравнений и неравенств, при решении нестандартных задач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ть способности учащихся к математической деятель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ствовать совершенствованию и развитию важнейших математических знаний и умений, предусмотренных програм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2920" y="285840"/>
            <a:ext cx="8858160" cy="657216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00040" y="642960"/>
            <a:ext cx="7786800" cy="10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ригонометрический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ополагающий вопрос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Как объять необъя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мет: Алгебра и начала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ласс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9900"/>
                </a:solidFill>
                <a:latin typeface="Calibri"/>
              </a:rPr>
              <a:t>Проблемные вопросы учебной темы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аковы основные сложности при решении тригонометрических задач 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ак правильно строить графики тригонометрических и обратных функций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ак сделать изучение тригонометрических функций интересны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2928960" y="642960"/>
            <a:ext cx="242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ff3399"/>
                </a:solidFill>
                <a:latin typeface="Calibri"/>
              </a:rPr>
              <a:t>Учебные воп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вы знаете об истории возникновения тригонометрических понят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к тригонометрия превратилась в самостоятельную наук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еречислите основные теоретические аспекты тем "Тригонометрии" и "Тригонометрические функции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кие типы практических задач можно решать с помощью перечисленных понят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к с помощью тригонометрии можно найти значение угл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Что вы знаете об использовании тригонометрии в других наук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сле завершения проекта учащиеся смогут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ать задачи, используя тригонометрический кру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ть рисовать графики тригонометрических функ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ить углы в треугольн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ать геометрические задачи, с помощью тригонометрических функ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ять тригонометрические функции в других област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оить графики обратных тригонометрических функ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ить производные тригонометрических функци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Содержимое 2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85840" y="285840"/>
            <a:ext cx="8572320" cy="11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чебно-тематический план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ка задачи,  выдвижение первоначальных гипотез,     формирование тем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по группам, составление плана индивидуаль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источников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од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и помощи при выполнении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предварительны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Заключительны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выполнен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анализ участник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1:31:46Z</dcterms:created>
  <dc:creator>Rem</dc:creator>
  <dc:description/>
  <dc:language>en-US</dc:language>
  <cp:lastModifiedBy>илья</cp:lastModifiedBy>
  <dcterms:modified xsi:type="dcterms:W3CDTF">2010-05-30T13:53:52Z</dcterms:modified>
  <cp:revision>121</cp:revision>
  <dc:subject/>
  <dc:title>metodu1</dc:title>
</cp:coreProperties>
</file>